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D494-73AC-4A9F-A1FF-3E1432FAB7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time is short, learners could choose fewer words/sentences. After writing the sentences, groups could swap to correct and comment on the sente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22D0-B08D-4B4C-AEEB-360AD93612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then read and suggest corrections for each others’ letters. They can then find the addresses and send them to the NG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46DF-FEFC-40DD-9CDF-DCD6C16FBB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about 2.5 – 3 hours: quiz – 20 mins; reading 1 – 15 mins; jigsaw reading – 20-30 mins; vocab – 10 mins; grammar – 20–30 mins; writing – 20–4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C8A7-25E4-417E-9507-177FD19A3F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c  2/b  3/c  4/b  5/b  6/b  7/a  8/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9364-8376-4538-BD8B-C046AB02B9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ticle B (“Development pornography”) is the shortest and could be given to slower rea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FC70-EB87-4AC3-BEF6-69AC9E23AC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/e  2/c  3/h  4/f  5/b  6/g  7/d  8/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28B6-7761-4BF2-AB21-665125E54D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c   2/a  3/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FD8D-6BC8-4AF4-8C37-3ADF023D0C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A271-1F8D-4570-9068-2715DBB1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101-65F9-4910-A4FF-409594B7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855-1BC0-4876-A87F-F82AE787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576-ABFD-44F2-8E13-631683F4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6032-895D-4B30-A343-492D1C56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9A5-6DE2-4B57-9702-330B7ABC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A509-36F6-438D-9C70-E7CB0173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3BA5-797C-43F4-A526-E619620A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7A39-C9D9-40C4-A48B-4AAE9183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D86-AC25-49F1-B204-86C8B9AD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4F75-0E45-4AF3-9028-4B341714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286F-76A6-4191-BD03-771A57DD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E4B8-8ED9-4905-B5E9-4BBDB7697A7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GOs_-_do_they_help%3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%22Development_pornography%22_-_using_photos_to_get_people_to_give_money_to_charit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2636640"/>
            <a:ext cx="81356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harities and NGO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5229360"/>
            <a:ext cx="813744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NEW INTERNATIONALIST 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UPPER INTERMEDIATE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000160" cy="282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276720" y="404640"/>
            <a:ext cx="557820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NSERVATION, POACHING, CARBON TRADING, BIODIVERSITY, FUNDRAISING, PORNOGRAPHY, DONATIONS, SWEATSH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49600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Now, in groups, write 8 conditional sentences about NGOs/charities, using one of the words/phrases in each sentence – you can look back at the articles you read – starting “If …..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alibri"/>
              </a:rPr>
              <a:t>Write a letter in pai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a/ Choose one of the NGOs to write to (you could do some Internet research too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b/ Thank them for all the good work they have been do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c/ Tell them about some of the problems with their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d/ Ask them what they plan to do about this, and/or make sugg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e/ Send your letter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315120" y="260280"/>
            <a:ext cx="24861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5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125360"/>
            <a:ext cx="84358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Now read the texts you didn’t read in the less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: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http://eewiki.newint.org/index.php/%22Development_pornography%22_-_using_photos_to_get_people_to_give_money_to_charit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:</a:t>
            </a:r>
            <a:r>
              <a:rPr b="1" lang="en-GB" sz="2100" spc="-1" strike="noStrike">
                <a:solidFill>
                  <a:srgbClr val="000000"/>
                </a:solidFill>
                <a:latin typeface="Calibri"/>
              </a:rPr>
              <a:t>http://eewiki.newint.org/index.php/%22Development_pornography%22_-_using_photos_to_get_people_to_give_money_to_char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: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ttp://eewiki.newint.org/index.php/Charities_and_busin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And, at the bottom of each text, click on the original article and read that too – you will find it a lot easier, because you already understand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lesson toda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Quiz – discuss in pai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Calibri"/>
              </a:rPr>
              <a:t>Read – check quiz answ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Jigsaw reading – read and discu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7030a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Vocabulary – discuss and match defini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Grammar – use vocabulary to write sentences using conditio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b0f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f0"/>
                </a:solidFill>
                <a:latin typeface="Calibri"/>
              </a:rPr>
              <a:t>Writing – a letter to one of the N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19700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1/ What is an NGO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New Government Office      b) Not a Government Office              c) Non-Governmental Organisatio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2/ When did people first use the phrase “NGO”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1910                 b) 1945                  c) 1962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3/ How many NGOs are there now in the US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500, 000           b) 1,000,000        c) 1,500,000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4/ What’s a BINGO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a game to win money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b) a Big International NGO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c) a Broadly Interesting NGO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883560" y="4437000"/>
            <a:ext cx="208116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33336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5/ Which country has the world’s largest NGOs?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The US            b) Bangladesh                 c) the Philippine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6/ In Bangladesh and the Philippines, the NGOs: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help solve all the problem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) help with some problems but don’t help with the basic problems of inequality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c) do nothing to help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7/ NGOs have achieved a lot: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helped stop slavery, ban landmines and fought for human right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) helped with war crimes in Israel and Palestine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c) helped societies become more equa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8/ The main problem with NGOs is that: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they play bingo too much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) they are too closely linked to politics, by money and contro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c) they change too many thing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ow read this to check your answer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http://eewiki.newint.org/index.php/NGOs_-_do_they_help%3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104840" y="2421000"/>
            <a:ext cx="6405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Jigsaw reading: divide the class into 3 groups: A, B and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55736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Everyone make notes on 5 important points: do NGOs really help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Group A read thi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http://eewiki.newint.org/index.php/%22Development_pornography%22_-_using_photos_to_get_people_to_give_money_to_charit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Group B read thi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eewiki.newint.org/index.php/%22Development_pornography%22_-_using_photos_to_get_people_to_give_money_to_cha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Group C read thi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ttp://eewiki.newint.org/index.php/Charities_and_busi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6049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Speaking: get into groups of at least one A, one B and one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000000"/>
                </a:solidFill>
                <a:uFillTx/>
                <a:latin typeface="Calibri"/>
              </a:rPr>
              <a:t>Discuss</a:t>
            </a: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Do NGOs really help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What good things do they do? Where? Wh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What are the problems with NGO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How could they work bet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072120" y="1413000"/>
            <a:ext cx="286380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the same groups, match these words to the definition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7640" y="1267920"/>
            <a:ext cx="2879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con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po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/ carbon tr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/ bio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5/ fundra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/ porn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7/ do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8/ sweatsh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32000" y="1484280"/>
            <a:ext cx="590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actories with bad work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tting money for char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illing wild animals illeg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ey people give to cha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oking after nature and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l the variety in the natural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ictures or videos of s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ying and selling credits to be allowed to release more CO2 (carbon dioxi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member conditionals? – mat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413000"/>
            <a:ext cx="4038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1)  1</a:t>
            </a:r>
            <a:r>
              <a:rPr b="0" lang="en-GB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st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conditiona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people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giv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money to charit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2) 2</a:t>
            </a:r>
            <a:r>
              <a:rPr b="0" lang="en-GB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nd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conditio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NGOs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wer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not so close to big busines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en-GB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rd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conditio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WWF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hadn’t forced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 to leave their land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would be abl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be more independ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wouldn’t have been abl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create a wildlife pa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expec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arities to hel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very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8T16:25:42Z</dcterms:created>
  <dc:creator>Linda Ruas</dc:creator>
  <dc:description/>
  <dc:language>en-US</dc:language>
  <cp:lastModifiedBy>Linda Ruas</cp:lastModifiedBy>
  <dcterms:modified xsi:type="dcterms:W3CDTF">2014-12-29T11:39:41Z</dcterms:modified>
  <cp:revision>15</cp:revision>
  <dc:subject/>
  <dc:title>Charities and NGOs</dc:title>
</cp:coreProperties>
</file>